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FA6-5414-4E20-BE41-1431722D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91E-75EE-46BD-9FED-54BD6488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B1B-A0B1-4845-AA4F-DABCE696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750-8E9F-4C7C-8892-B06C7D56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87D-8089-4E0F-86AA-37B5D504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8AC-8CDB-4620-A13C-D5EB8C3E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E0B-E48A-4931-A69D-0C0D4BBD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08A-7C62-475C-AAB0-DDA9F9C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3B7-EA5C-4C74-B4EB-8D288961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7B1-C3C8-419C-B14B-5DF26FB8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945-A55F-43CD-A734-DE37EEEF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D3D-C054-49A4-A3EB-85E57B00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9D6C-A0F0-4F6A-8900-BAF32CA1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040" y="1219320"/>
            <a:ext cx="7424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perform all of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 function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are said to be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86600" y="1523880"/>
            <a:ext cx="56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once living th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known as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524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nted, neither dead or ali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8280" y="990720"/>
            <a:ext cx="595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name for 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ing th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3800" y="1523880"/>
            <a:ext cx="807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kingdom 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ellular &amp; prokaryoti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1000" y="1295280"/>
            <a:ext cx="721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l to the King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your kingdom 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752480"/>
            <a:ext cx="763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icellular Ameb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ongs to this Kingdo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952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</a:t>
            </a:r>
            <a:r>
              <a:rPr b="1" lang="en-US" sz="5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gree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ingdom is ma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of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heophytes &amp; Bryophyt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1371600"/>
            <a:ext cx="748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umungo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us among 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ongs to this kingdo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240" y="1143000"/>
            <a:ext cx="6890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phylum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well as Lions, tigers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Bears oh m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1523880"/>
            <a:ext cx="807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lum of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thworm and the Leec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09960" y="1523880"/>
            <a:ext cx="707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nimals are onl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cells thick and ouc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an s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76680" y="1219320"/>
            <a:ext cx="9367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phylum is armed &amp; ready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a suit o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oskeleton armor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56960" y="1219320"/>
            <a:ext cx="709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ub-a-dub-dub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nge Bob’s phylu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2680" y="1600200"/>
            <a:ext cx="635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2 classif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s describe yo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52388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</a:t>
            </a: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tist develope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modern 2 name system for organism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840" y="1600200"/>
            <a:ext cx="58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the language o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tific nam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76240" y="1219320"/>
            <a:ext cx="725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Genus or species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one has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letter Capitaliz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160" y="1295280"/>
            <a:ext cx="826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rm that describ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2 name naming 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9072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200400" y="106668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e King &amp;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1430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nimal phy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1430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enus &amp; spe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106668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Lif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Function J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952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ass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52480" y="1143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mong the Li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143000"/>
            <a:ext cx="87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aining &amp; processing foo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990720"/>
            <a:ext cx="73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or without oxygen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function produ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f you energ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600" y="762120"/>
            <a:ext cx="82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ntrol &amp; co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n organis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838080"/>
            <a:ext cx="740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rm for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of a stabl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environment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914400"/>
            <a:ext cx="586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m total of 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fe func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19320"/>
            <a:ext cx="914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Chord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5760" y="2133720"/>
            <a:ext cx="888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is subphylum of Chord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ncludes all anima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ith a backb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7880" y="297180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Vertebr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828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69520" y="6400800"/>
            <a:ext cx="67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 edited by Sac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295280"/>
            <a:ext cx="632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general and the biggest classification group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00520" y="2971800"/>
            <a:ext cx="330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onom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7440" y="2971800"/>
            <a:ext cx="40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olution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71800" y="297180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9080" y="2971800"/>
            <a:ext cx="20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5000" y="380880"/>
            <a:ext cx="292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d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lu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19520" y="29718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52800" y="2971800"/>
            <a:ext cx="30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liv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14640" y="2971800"/>
            <a:ext cx="31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95560" y="2971800"/>
            <a:ext cx="315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era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specific classification group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9120" y="297180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l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19560" y="2971800"/>
            <a:ext cx="25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is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67240" y="29718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24120" y="29718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57400" y="29718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d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86000" y="297180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eli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7720" y="2971800"/>
            <a:ext cx="76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nidarians/Coelentera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6960" y="29718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hropo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2320" y="297180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ifer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71400" y="2971800"/>
            <a:ext cx="42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9800" y="2133720"/>
            <a:ext cx="55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cience of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ifying thing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9120" y="297180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nae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81360" y="2971800"/>
            <a:ext cx="178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48160" y="297180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2560" y="2971800"/>
            <a:ext cx="70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omial nomencl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10040" y="297180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tr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66960" y="29718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81440" y="2971800"/>
            <a:ext cx="33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52840" y="297180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osta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47880" y="297180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ifying organisms shows similarities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ces and this type of relationship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he correct or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7 major group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“taxa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0400" y="1905120"/>
            <a:ext cx="523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iving prefix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2:03:19Z</dcterms:modified>
  <cp:revision>75</cp:revision>
  <dc:subject/>
  <dc:title>Classification Life Functions Jeopardy</dc:title>
</cp:coreProperties>
</file>